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DED-A226-4B78-88F9-2C916D59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5880"/>
            <a:ext cx="61718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2A7E-184F-40B2-8C5E-11A961F9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588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680" y="528588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9EE-7DC9-4CE5-9B9D-81728E20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30000" y="213372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920" y="213372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588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30000" y="528588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920" y="5285880"/>
            <a:ext cx="198720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5EF-B81B-4707-B4B8-71972B51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720"/>
            <a:ext cx="617184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0BC-4DB1-4F25-BAD9-EB203F82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617184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593-D343-44E5-B64F-F7714A5E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6B1-DB76-492D-AE01-F7F6BFB4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95CB-A099-4958-B5E9-438F3F67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120"/>
            <a:ext cx="61718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3CB-4090-4B03-97C9-F15ADBD4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588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905-9074-4C71-88AC-44B0A3CE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680" y="528588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B065-3B1A-452A-80BD-6BEDC524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MX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680" y="2133720"/>
            <a:ext cx="301176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5880"/>
            <a:ext cx="617184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B72-4DB2-477F-9656-39FCD3CD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120"/>
            <a:ext cx="6171840" cy="152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720"/>
            <a:ext cx="617184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ga clic para modificar el estilo de texto del patrón</a:t>
            </a:r>
            <a:endParaRPr b="0" lang="es-MX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o nivel</a:t>
            </a:r>
            <a:endParaRPr b="0" lang="es-MX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cer nivel</a:t>
            </a:r>
            <a:endParaRPr b="0" lang="es-MX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arto nivel</a:t>
            </a:r>
            <a:endParaRPr b="0" lang="es-MX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s-MX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475120"/>
            <a:ext cx="159984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MX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MX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120"/>
            <a:ext cx="217152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475120"/>
            <a:ext cx="159984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MX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79827D-8D98-46BF-A878-A29E32CBE5FA}" type="slidenum">
              <a:rPr b="0" lang="es-MX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onvologofsm@gmail.co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1 CuadroTexto"/>
          <p:cNvSpPr/>
          <p:nvPr/>
        </p:nvSpPr>
        <p:spPr>
          <a:xfrm>
            <a:off x="1917000" y="323640"/>
            <a:ext cx="460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pt-BR" sz="2400" spc="-1" strike="noStrike">
                <a:solidFill>
                  <a:srgbClr val="ffff00"/>
                </a:solidFill>
                <a:latin typeface="Eras Bold ITC"/>
              </a:rPr>
              <a:t>COMITÊ DE LOGOTIPO DO FÓRUM SOCIAL MUN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pt-BR" sz="2400" spc="-1" strike="noStrike">
                <a:solidFill>
                  <a:srgbClr val="ffff00"/>
                </a:solidFill>
                <a:latin typeface="Eras Bold ITC"/>
              </a:rPr>
              <a:t>Cidade do México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2 CuadroTexto"/>
          <p:cNvSpPr/>
          <p:nvPr/>
        </p:nvSpPr>
        <p:spPr>
          <a:xfrm>
            <a:off x="2781000" y="1547640"/>
            <a:ext cx="259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2800" spc="-1" strike="noStrike">
                <a:solidFill>
                  <a:srgbClr val="581f4d"/>
                </a:solidFill>
                <a:latin typeface="Arial Black"/>
              </a:rPr>
              <a:t>CHAM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3 CuadroTexto"/>
          <p:cNvSpPr/>
          <p:nvPr/>
        </p:nvSpPr>
        <p:spPr>
          <a:xfrm>
            <a:off x="188640" y="2051640"/>
            <a:ext cx="6480360" cy="57636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Participar do </a:t>
            </a:r>
            <a:r>
              <a:rPr b="1" i="1" lang="pt-BR" sz="1600" spc="-1" strike="noStrike">
                <a:solidFill>
                  <a:srgbClr val="000000"/>
                </a:solidFill>
                <a:latin typeface="Calibri"/>
              </a:rPr>
              <a:t>concurso aberto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 para a realização do "Logotipo" para o próximo Fórum Social Mundial 202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4 CuadroTexto"/>
          <p:cNvSpPr/>
          <p:nvPr/>
        </p:nvSpPr>
        <p:spPr>
          <a:xfrm>
            <a:off x="260640" y="2771640"/>
            <a:ext cx="15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MX" sz="1600" spc="-1" strike="noStrike">
                <a:solidFill>
                  <a:srgbClr val="000000"/>
                </a:solidFill>
                <a:latin typeface="Bahnschrift SemiBold"/>
              </a:rPr>
              <a:t>B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5 CuadroTexto"/>
          <p:cNvSpPr/>
          <p:nvPr/>
        </p:nvSpPr>
        <p:spPr>
          <a:xfrm>
            <a:off x="260640" y="3060000"/>
            <a:ext cx="640836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2" spcCol="180000"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Esta chamada será aberta a partir de sua publicação e será encerrada em 13 de março de 2020 às 23h5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1100" spc="-1" strike="noStrike">
                <a:solidFill>
                  <a:srgbClr val="000000"/>
                </a:solidFill>
                <a:latin typeface="Bahnschrift SemiBold"/>
              </a:rPr>
              <a:t>PARTICIPANT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Artistas plásticos, designers gráficos, grafiteiros, artistas e qualquer grupo ou pessoa interessada na realização do logotipo que representará o Fórum Social Mundial 2021 a ser realizado no México podem participa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1100" spc="-1" strike="noStrike">
                <a:solidFill>
                  <a:srgbClr val="000000"/>
                </a:solidFill>
                <a:latin typeface="Bahnschrift SemiBold"/>
              </a:rPr>
              <a:t>CONDIÇÕ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-O logotipo será de criação livre, deve conter graficamente os princípios do Fórum Social Mundial representativo de: diálogo, consenso, inclusão, fraternidade, diversidade, hospitalidade, pluralidade, interculturalidade e respeito pelos direitos human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1100" spc="-1" strike="noStrike">
                <a:solidFill>
                  <a:srgbClr val="000000"/>
                </a:solidFill>
                <a:latin typeface="Bahnschrift SemiBold"/>
              </a:rPr>
              <a:t>RECEPÇÃ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- Ele deve ser enviado por e-mail em arquivo PDF, com o nome da pessoa que o produz, correio e telefone para entrar em contato com você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1100" spc="-1" strike="noStrike">
                <a:solidFill>
                  <a:srgbClr val="000000"/>
                </a:solidFill>
                <a:latin typeface="Bahnschrift SemiBold"/>
              </a:rPr>
              <a:t>SELEÇÃO DO LOGOTIP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Após o encerramento da chamada, as propostas apresentadas serão revisadas e o comitê de logomarcas selecionará os logotipos finalist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As propostas finalistas serão apresentadas na Assembléia do Grupo Facilitador para definir o Logotipo Finalista do Fórum Social Mundial México 2021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1100" spc="-1" strike="noStrike">
                <a:solidFill>
                  <a:srgbClr val="000000"/>
                </a:solidFill>
                <a:latin typeface="Bahnschrift SemiBold"/>
              </a:rPr>
              <a:t>COMITÊ DE SELEÇÃ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Será composto pela comissão do logotipo, que será responsável pela pré-seleção e depois decidirá por consenso na Assembléia do Coletivo Facilitador do FS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1100" spc="-1" strike="noStrike">
                <a:solidFill>
                  <a:srgbClr val="000000"/>
                </a:solidFill>
                <a:latin typeface="Bahnschrift SemiBold"/>
              </a:rPr>
              <a:t>RESULTADOS DO CONCURS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Os resultados serão irrecorrívei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  </a:t>
            </a: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O vencedor será notificado por e-mail do veredicto para enviar o logotipo em formato editável, vetorizado e em formato tiff e jpg a 300 dpi, além dos arquivos de tipografia com suas variantes (ligth, normal, negrito), códigos de cores panto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  </a:t>
            </a: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Os autores devem atribuir os direitos do logotipo ao FS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pt-BR" sz="1100" spc="-1" strike="noStrike">
                <a:solidFill>
                  <a:srgbClr val="000000"/>
                </a:solidFill>
                <a:latin typeface="Bahnschrift SemiBold"/>
              </a:rPr>
              <a:t>DO PRÊMIO</a:t>
            </a: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pt-BR" sz="1100" spc="-1" strike="noStrike">
                <a:solidFill>
                  <a:schemeClr val="accent4">
                    <a:lumMod val="40000"/>
                    <a:lumOff val="60000"/>
                  </a:schemeClr>
                </a:solidFill>
                <a:latin typeface="Bahnschrift SemiBold"/>
              </a:rPr>
              <a:t>- Haverá um único vencedor com um prêmio simbólico de US $ 2.000,00 pesos M / N e a oportunidade de seu trabalho gráfico ser conhecido mundialmen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6 CuadroTexto"/>
          <p:cNvSpPr/>
          <p:nvPr/>
        </p:nvSpPr>
        <p:spPr>
          <a:xfrm>
            <a:off x="332640" y="8667000"/>
            <a:ext cx="626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s-MX" sz="1800" spc="-1" strike="noStrike" u="sng">
                <a:solidFill>
                  <a:srgbClr val="ffde66"/>
                </a:solidFill>
                <a:uFillTx/>
                <a:latin typeface="Calibri"/>
                <a:hlinkClick r:id="rId1"/>
              </a:rPr>
              <a:t>convologofsm@gmail.com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2 Imagen" descr=""/>
          <p:cNvPicPr/>
          <p:nvPr/>
        </p:nvPicPr>
        <p:blipFill>
          <a:blip r:embed="rId2"/>
          <a:stretch/>
        </p:blipFill>
        <p:spPr>
          <a:xfrm>
            <a:off x="347040" y="296280"/>
            <a:ext cx="1425240" cy="14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pulento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  <Words>339</Words>
  <Paragraphs>4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07T17:49:46Z</dcterms:created>
  <dc:creator>Microsoft</dc:creator>
  <dc:description/>
  <dc:language>en-US</dc:language>
  <cp:lastModifiedBy>Rosy</cp:lastModifiedBy>
  <dcterms:modified xsi:type="dcterms:W3CDTF">2020-02-25T18:35:41Z</dcterms:modified>
  <cp:revision>3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Carta (216 x 279 mm)</vt:lpwstr>
  </property>
  <property fmtid="{D5CDD505-2E9C-101B-9397-08002B2CF9AE}" pid="3" name="Slides">
    <vt:r8>1</vt:r8>
  </property>
</Properties>
</file>